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483-6CFC-4D1B-9624-679425A9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7FB-0B7E-46C9-B6B5-6AE6D0CB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E4-023D-4F46-B669-71AD4AFA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4A6-B20C-4A8B-92C3-988F1B2C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216B-0A3F-467C-A422-4388DE31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1BA6-C35C-4543-8E98-A4213253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52F-E3C8-4E7B-8587-C7CE41C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6B5C-A2D6-4774-9865-DAA633E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0E1-BBCD-4C45-B1FA-05C0CA9D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DF9B-EA53-40A4-83F2-63E0274F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93EA-B14D-47F5-A4EF-C30926A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711-3111-4C0B-AEBC-67AD5DD7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35B-6FDB-43D6-BC4E-AE030B2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413C-6F41-4700-BDEB-667E36B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29C0-3AD8-4447-A931-712B0AE1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C6E-D1A8-461A-9919-482248A8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45D-B06D-4DC2-A17B-C1E7011A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8A2-67A8-4AA6-9E0F-75BAEA1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5A4-849C-4F49-BCEA-AD19DB9C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69B-BFA8-4D5E-AF85-2CD85C8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6E7-B6E3-40C4-B694-85DCB2A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D5C-17A0-4A4E-9775-002CDC2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FF6-56EE-4F30-9BF1-D7D3216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570-4315-4C72-8904-2EF831B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E54-9BF8-46CD-AA4D-3102B75AA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5002-EACB-437C-9924-A8594939A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easurement I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48320" y="2057400"/>
            <a:ext cx="4038480" cy="4038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n inc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quart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is abou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n inc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B_OFI041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62720" y="40384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40384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 in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foo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574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eng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clipboar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B_OEQ386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05520" y="3657600"/>
            <a:ext cx="2133360" cy="213372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73392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 foo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8320" y="1752480"/>
            <a:ext cx="4038480" cy="4800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yar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1460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idth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doo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H_HIN007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657520" cy="476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8720" y="3809880"/>
            <a:ext cx="14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1 yar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62520" y="2286000"/>
            <a:ext cx="5181480" cy="411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ong is a mil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Four time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round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rack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SPOFT246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564000" cy="1743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6200000">
            <a:off x="5484960" y="2285640"/>
            <a:ext cx="2058840" cy="3887640"/>
          </a:xfrm>
          <a:custGeom>
            <a:avLst/>
            <a:gdLst>
              <a:gd name="textAreaLeft" fmla="*/ 100440 w 2058840"/>
              <a:gd name="textAreaRight" fmla="*/ 1958400 w 2058840"/>
              <a:gd name="textAreaTop" fmla="*/ 100440 h 3887640"/>
              <a:gd name="textAreaBottom" fmla="*/ 3787200 h 3887640"/>
            </a:gdLst>
            <a:ahLst/>
            <a:rect l="textAreaLeft" t="textAreaTop" r="textAreaRight" b="textAreaBottom"/>
            <a:pathLst>
              <a:path w="21600" h="40783">
                <a:moveTo>
                  <a:pt x="3600" y="0"/>
                </a:moveTo>
                <a:arcTo wR="3600" hR="3600" stAng="16200000" swAng="-5400000"/>
                <a:lnTo>
                  <a:pt x="0" y="37183"/>
                </a:lnTo>
                <a:arcTo wR="3600" hR="3600" stAng="10800000" swAng="-5400000"/>
                <a:lnTo>
                  <a:pt x="18000" y="40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144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ritten by Moncia Yuskait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Broderbund ClickArt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25,000 Deluxe Image P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part from Corel Gallery by Corel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rp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TOLHN087" descr=""/>
          <p:cNvPicPr/>
          <p:nvPr/>
        </p:nvPicPr>
        <p:blipFill>
          <a:blip r:embed="rId2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a pi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centi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the t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your fing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PPLPR003" descr=""/>
          <p:cNvPicPr/>
          <p:nvPr/>
        </p:nvPicPr>
        <p:blipFill>
          <a:blip r:embed="rId2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the width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of one &amp; 1/2 door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H_HIN017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H_HIN017" descr=""/>
          <p:cNvPicPr/>
          <p:nvPr/>
        </p:nvPicPr>
        <p:blipFill>
          <a:blip r:embed="rId3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kilome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little over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1/2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mi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milli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drop of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iquid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H_HKT188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large is a li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Half of 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large po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bottle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FODBV108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paper clip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B_OEQ236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heavy is a kilogra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 kitte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weigh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about 1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ahoma"/>
              </a:rPr>
              <a:t>kilogram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ANMPT09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Monica/Bob Yuskaitis</cp:lastModifiedBy>
  <dcterms:modified xsi:type="dcterms:W3CDTF">2000-02-06T15:05:40Z</dcterms:modified>
  <cp:revision>9</cp:revision>
  <dc:subject/>
  <dc:title>Math Flash</dc:title>
</cp:coreProperties>
</file>